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CD0-4FC1-4A69-A35B-8DC0BE63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285-5277-410D-9552-691023F2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E84-4CCF-4885-8666-5FA14F7A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2BA-E33B-4212-AB79-8A441CD5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73D-16E3-4809-A02F-F126674C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E06-4BE1-4695-AD09-2E34CE4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16D-C77F-4F84-9E47-20BEE44A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EF5-D486-4238-8182-98515CDC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AD1-71F3-444C-A91A-F9BD641B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1CA-FB70-40A4-8AA5-770F692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AB8-D1FF-46CD-BD2A-34C76B4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14B-3372-47D3-A035-BB0F10F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1C82-31D2-4557-86C9-0AE4C1F94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1:27Z</dcterms:created>
  <dc:creator> </dc:creator>
  <dc:description/>
  <dc:language>en-US</dc:language>
  <cp:lastModifiedBy> </cp:lastModifiedBy>
  <dcterms:modified xsi:type="dcterms:W3CDTF">2007-04-17T14:21:49Z</dcterms:modified>
  <cp:revision>1</cp:revision>
  <dc:subject/>
  <dc:title>mat</dc:title>
</cp:coreProperties>
</file>